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954-EB12-4FE1-AC14-153CE94D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4B4-8352-48CE-8607-8980C548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252-982F-4E00-B946-6FCAD581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0BF-54B5-4C29-8B50-02EC629A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A297-C68D-41B7-B1D6-2ABB7376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8F7D-1EF8-4B91-A644-F2F0A801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BF11-022C-4DD2-BAF8-6B4DD4A0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11FB-AE78-4B56-9D8C-F66DE861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D0A8-BA4B-429A-B70C-FE4FD46E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176D-F2D7-4D54-8341-393FBA2A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903-8B3A-4428-A4B2-2B59D57A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FD2-441D-4AD6-8C6E-9DB6D221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0508-4B4C-49D2-B809-9BFF1FBA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5A27-6A04-446E-81A7-A22E3EBC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5BBD-728E-422E-8403-F2A1492C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BAEE-B23F-46F7-8C8A-C92CD957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7491-F1E2-44E7-BEA7-00C53650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3D3E-E902-4351-9E2C-77F0C71D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8ED2D-9AC6-4B49-A567-33A215E4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4AA2-F2D2-4771-AF7B-47CAA4D6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9A82-7837-464E-B80D-0C96EAE8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BC504-D915-4F00-A646-32FA2D95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CFB-C616-47F2-BDC8-58B44B19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AD92C-5C0E-4560-9D97-5177474D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A4C75-5927-46FD-BA05-D4EB2029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AEEF8-AFEC-41A4-AD70-48A779F6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8FC1-133A-4CC6-B743-95982A05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A859-97C4-4486-AF6D-7E3334E6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0AD2-69B9-48B1-9A1F-9F1AC8D6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C890-CFC2-440B-8B53-2FFBC6BE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4256-E885-4D16-BEE4-ED79DA68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67908-F899-4AE6-8FB3-A0D55E83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7109-62D0-4C82-96F2-6964BD06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4E3-CEFE-40ED-AC71-38741B88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A7161-2EB1-4EEF-9BAB-46814DA4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9BEB3-9A05-4992-9996-6DCA922E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46966-856E-458B-8A7E-98C2AB43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59420-1F10-469B-ABE4-D775AA70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F6DA7-78F0-4128-8C59-90D5C9C1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2597F-6168-46DA-9B1F-2358B490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1366A-313F-4212-8D08-D52D1529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1DEE0-EE53-4598-A463-B5EDF3AF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29418-3C50-4E17-87D0-F346B155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26B-06A2-4289-BC24-F0D5A782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911-E8F8-4167-810F-8B4122EE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C54-6865-4788-84E1-F76F3E8C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A1F-7892-4F51-8D3D-512A54BD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414-BDC9-435B-82E5-E6E3763C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584A-E5AC-4BCD-8584-DB77431D4016}" type="slidenum"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E868-A574-4EAF-86EE-30C5440F5749}" type="slidenum"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5962-9730-41D8-8073-E2B79BE352C9}" type="slidenum"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1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Dowolny kształt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BA23-0712-4DE1-90BE-4C1B3E4A4337}" type="slidenum"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Rekrutacja 2018/201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Symbol zastępczy zawartości 5" descr="1.jpg"/>
          <p:cNvPicPr/>
          <p:nvPr/>
        </p:nvPicPr>
        <p:blipFill>
          <a:blip r:embed="rId1"/>
          <a:stretch/>
        </p:blipFill>
        <p:spPr>
          <a:xfrm>
            <a:off x="2050920" y="2276640"/>
            <a:ext cx="5040360" cy="33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4617b"/>
                </a:solidFill>
                <a:latin typeface="Calibri"/>
              </a:rPr>
              <a:t>Do oryginałów dokumentów należy dołączyć: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dwie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fotografie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Bookman Old Style"/>
              </a:rPr>
              <a:t>Kartę informacyjną kandydata (zał. 1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2700360" y="2924280"/>
            <a:ext cx="2735280" cy="3552840"/>
          </a:xfrm>
          <a:prstGeom prst="rect">
            <a:avLst/>
          </a:prstGeom>
          <a:ln w="0">
            <a:noFill/>
          </a:ln>
        </p:spPr>
      </p:pic>
      <p:pic>
        <p:nvPicPr>
          <p:cNvPr id="235" name="Obraz 5" descr="C:\Users\Danka\Desktop\logo.jpg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4617b"/>
                </a:solidFill>
                <a:latin typeface="Calibri"/>
              </a:rPr>
              <a:t>§ 2.  Postępowanie kwalifikacyjne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14400" indent="-2462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aksymalnie</a:t>
            </a:r>
            <a:r>
              <a:rPr b="1" lang="pl-PL" sz="2600" spc="-1" strike="noStrike">
                <a:solidFill>
                  <a:srgbClr val="000000"/>
                </a:solidFill>
                <a:latin typeface="Constantia"/>
              </a:rPr>
              <a:t>  200, 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 tym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100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punktów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punkty uzyskane w wyniku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egzaminu gimnazjalnego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zawarte w zaświadczeniu o szczegółowych wynikach egzaminu. Wyniki egzaminu gimnazjalnego wyrażone w skali procentowej dla zadań z zakresu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język polski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historia i wiedza o społeczeństwie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matematyka, przedmioty przyrodnicz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język obcy nowożytny na poziomie podstawowym,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przelicza się na punkty według zasady: wynik procentowy z ww. zakresów mnożony przez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0,2 pk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8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Symbol zastępczy zawartości 2" descr=""/>
          <p:cNvPicPr/>
          <p:nvPr/>
        </p:nvPicPr>
        <p:blipFill>
          <a:blip r:embed="rId1"/>
          <a:stretch/>
        </p:blipFill>
        <p:spPr>
          <a:xfrm>
            <a:off x="378000" y="1878120"/>
            <a:ext cx="8315280" cy="4456080"/>
          </a:xfrm>
          <a:prstGeom prst="rect">
            <a:avLst/>
          </a:prstGeom>
          <a:ln w="0">
            <a:noFill/>
          </a:ln>
        </p:spPr>
      </p:pic>
      <p:pic>
        <p:nvPicPr>
          <p:cNvPr id="241" name="Obraz 4" descr="C:\Users\Danka\Desktop\logo.jpg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Przedmioty rekrutacyj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Czwarty przedmiot, 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</a:rPr>
              <a:t>uwzględniony w rekrutacji do szkół ponadgimnazjalnych, w roku 2018 będzie zależał od decyzji poszczególnych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szkó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W technikach 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</a:rPr>
              <a:t>będzie to przedmiot najściślej związany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z kształceniem zawodowy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W liceach ogólnokształcących 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</a:rPr>
              <a:t>będzie to przedmiot nadający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profil klasi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00244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500" spc="-1" strike="noStrike">
                <a:solidFill>
                  <a:srgbClr val="ff0000"/>
                </a:solidFill>
                <a:latin typeface="Calibri"/>
              </a:rPr>
              <a:t>I L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817640"/>
          <a:ext cx="8229600" cy="398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Kla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Czwarty przedmiot rekrutacyj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olitechni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fizy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informa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informaty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ekonomi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geograf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chemi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ch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rawno -społe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w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lingwist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j. niemiec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medy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biolo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pic>
        <p:nvPicPr>
          <p:cNvPr id="247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49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celujący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18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bardzo dobry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17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punktów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dobry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14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punktów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dostateczny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8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dopuszczający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1" lang="pl-PL" sz="32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Bookman Old Style"/>
              </a:rPr>
              <a:t> punkt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51" name="Obraz 3" descr=""/>
          <p:cNvPicPr/>
          <p:nvPr/>
        </p:nvPicPr>
        <p:blipFill>
          <a:blip r:embed="rId2"/>
          <a:stretch/>
        </p:blipFill>
        <p:spPr>
          <a:xfrm>
            <a:off x="2916360" y="5033880"/>
            <a:ext cx="2179440" cy="142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49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uzyskanych za inne osiągnięcia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wymienione w świadectwie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ukończenia gimnazjum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maksymalnie </a:t>
            </a:r>
            <a:r>
              <a:rPr b="1" lang="pl-PL" sz="2500" spc="-1" strike="noStrike">
                <a:solidFill>
                  <a:srgbClr val="ff0000"/>
                </a:solidFill>
                <a:latin typeface="Bookman Old Style"/>
              </a:rPr>
              <a:t>28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punkty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a) za ukończenie gimnazjum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z wyróżnieniem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1800" spc="-1" strike="noStrike">
                <a:solidFill>
                  <a:srgbClr val="ff0000"/>
                </a:solidFill>
                <a:latin typeface="Bookman Old Style"/>
              </a:rPr>
              <a:t>7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b) za uzyskanie tytułu w konkursach przedmiotowych organizowanych przez kuratora (kuratorów) oświaty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o zasięgu ponadwojewódzkim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, w tym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finalist</a:t>
            </a:r>
            <a:r>
              <a:rPr b="0" lang="pl-PL" sz="1400" spc="-1" strike="noStrike">
                <a:solidFill>
                  <a:srgbClr val="ff0000"/>
                </a:solidFill>
                <a:latin typeface="Bookman Old Style"/>
              </a:rPr>
              <a:t>y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przedmiotowego  -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10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laureata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tematycznego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7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finalisty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tematycznego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5 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punktów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c) za  uzyskanie tytułu w konkursach przedmiotowych organizowanych przez kuratora (kuratorów) oświaty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o zasięgu  wojewódzkim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, w tym: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dwóch lub więcej tytułów finalisty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przedmiotowego -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10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dwóch lub więcej tytułów  laureata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tematycznego -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7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dwóch lub więcej tytułów  finalisty 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tematycznego -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5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finalisty 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przedmiotowego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7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punktów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      </a:t>
            </a:r>
            <a:r>
              <a:rPr b="1" lang="pl-PL" sz="1400" spc="-1" strike="noStrike">
                <a:solidFill>
                  <a:srgbClr val="ff0000"/>
                </a:solidFill>
                <a:latin typeface="Bookman Old Style"/>
              </a:rPr>
              <a:t>finalista </a:t>
            </a:r>
            <a:r>
              <a:rPr b="0" lang="pl-PL" sz="1400" spc="-1" strike="noStrike">
                <a:solidFill>
                  <a:srgbClr val="000000"/>
                </a:solidFill>
                <a:latin typeface="Bookman Old Style"/>
              </a:rPr>
              <a:t>konkursu tematycznego 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</a:rPr>
              <a:t>3</a:t>
            </a:r>
            <a:r>
              <a:rPr b="1" lang="pl-PL" sz="1400" spc="-1" strike="noStrike">
                <a:solidFill>
                  <a:srgbClr val="000000"/>
                </a:solidFill>
                <a:latin typeface="Bookman Old Style"/>
              </a:rPr>
              <a:t> punkty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49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)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za uzyskania wysokiego miejsca  w zawodach wiedzy, artystycznych, sportowych przy czym na szczebl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międzynarodowym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punkty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krajowym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punkty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wojewódzkim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punkty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powiatowym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 punkt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e)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za osiągnięcia w zakresie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aktywności społecznej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,         w tym na rzecz środowiska szkolnego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w szczególności w formie wolontariatu –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3000" spc="-1" strike="noStrike">
                <a:solidFill>
                  <a:srgbClr val="ff0000"/>
                </a:solidFill>
                <a:latin typeface="Bookman Old Style"/>
              </a:rPr>
              <a:t>3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 punkty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58" name="Obraz 3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1993680" cy="151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stępowanie kwalifikacyjn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W przypadku gdy kandydat ma więcej niż jedno szczególne osiągnięcie </a:t>
            </a:r>
            <a:r>
              <a:rPr b="0" lang="pl-PL" sz="2600" spc="-1" strike="noStrike">
                <a:solidFill>
                  <a:srgbClr val="ff0000"/>
                </a:solidFill>
                <a:latin typeface="Constantia"/>
              </a:rPr>
              <a:t>z takich samych zawodów wiedzy, artystycznych i sportowych, na tym samym szczeblu oraz z tego samego zakresu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, wymienione na świadectwie ukończenia gimnazjum, </a:t>
            </a:r>
            <a:r>
              <a:rPr b="0" lang="pl-PL" sz="2600" spc="-1" strike="noStrike">
                <a:solidFill>
                  <a:srgbClr val="ff0000"/>
                </a:solidFill>
                <a:latin typeface="Constantia"/>
              </a:rPr>
              <a:t>przyznaje się jednorazowo punkty za najwyższe osiągnięcie tego ucznia w tych zawodach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, z tym że maksymalna liczba punktów możliwych do uzyskania za wszystkie osiągnięcia wynosi </a:t>
            </a:r>
            <a:r>
              <a:rPr b="1" lang="pl-PL" sz="4400" spc="-1" strike="noStrike">
                <a:solidFill>
                  <a:srgbClr val="ff0000"/>
                </a:solidFill>
                <a:latin typeface="Constantia"/>
              </a:rPr>
              <a:t>18</a:t>
            </a:r>
            <a:r>
              <a:rPr b="1" lang="pl-PL" sz="2600" spc="-1" strike="noStrike">
                <a:solidFill>
                  <a:srgbClr val="ff0000"/>
                </a:solidFill>
                <a:latin typeface="Constantia"/>
              </a:rPr>
              <a:t> punktó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28 pk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7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kt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świadectwo z wyróżnienie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kt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wolontariat, aktywność na rzecz szkoł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8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pkt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konkurs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( np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m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piłka ręczna na szczeblu wojewódzkim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kt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m.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iłka nożna na szczeblu powiatowym 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kt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m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 w konkursie plastycznym  na szczeblu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owiatowym 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k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3m. 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w konkursie recytatorskim  na szczeblu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iatowym 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kt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…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PISANE  NA   ŚWIADECTW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65" name="Obraz 4" descr=""/>
          <p:cNvPicPr/>
          <p:nvPr/>
        </p:nvPicPr>
        <p:blipFill>
          <a:blip r:embed="rId2"/>
          <a:stretch/>
        </p:blipFill>
        <p:spPr>
          <a:xfrm>
            <a:off x="611280" y="5613480"/>
            <a:ext cx="903240" cy="71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Zasady rekrutacj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pl-PL" sz="2200" spc="-1" strike="noStrike">
                <a:solidFill>
                  <a:srgbClr val="ff0000"/>
                </a:solidFill>
                <a:latin typeface="Constantia"/>
              </a:rPr>
              <a:t>Ustawa z dnia 14 grudnia 2016 r. – Przepisy wprowadzające ustawę – Prawo oświatowe </a:t>
            </a:r>
            <a:r>
              <a:rPr b="0" i="1" lang="pl-PL" sz="2200" spc="-1" strike="noStrike">
                <a:solidFill>
                  <a:srgbClr val="000000"/>
                </a:solidFill>
                <a:latin typeface="Constantia"/>
              </a:rPr>
              <a:t>(Dz. U. z 2017 r. poz. 60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ff0000"/>
                </a:solidFill>
                <a:latin typeface="Constantia"/>
              </a:rPr>
              <a:t>Ustawa z dnia 14 grudnia 2016 r. </a:t>
            </a:r>
            <a:r>
              <a:rPr b="0" lang="pl-PL" sz="2200" spc="-1" strike="noStrike">
                <a:solidFill>
                  <a:srgbClr val="ff0000"/>
                </a:solidFill>
                <a:latin typeface="Constantia"/>
              </a:rPr>
              <a:t>Prawo oświatowe</a:t>
            </a:r>
            <a:r>
              <a:rPr b="0" i="1" lang="pl-PL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i="1" lang="pl-PL" sz="2200" spc="-1" strike="noStrike">
                <a:solidFill>
                  <a:srgbClr val="000000"/>
                </a:solidFill>
                <a:latin typeface="Constantia"/>
              </a:rPr>
              <a:t>(Dz</a:t>
            </a:r>
            <a:r>
              <a:rPr b="0" lang="pl-PL" sz="2200" spc="-1" strike="noStrike">
                <a:solidFill>
                  <a:srgbClr val="000000"/>
                </a:solidFill>
                <a:latin typeface="Constantia"/>
              </a:rPr>
              <a:t>. U. z 2017 r. poz. 59, poz. 949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ff0000"/>
                </a:solidFill>
                <a:latin typeface="Constantia"/>
              </a:rPr>
              <a:t>Rozporządzenie Ministra Edukacji Narodowej z dnia 14.03.2017 r. w sprawie przeprowadzania postępowania rekrutacyjnego oraz postępowania uzupełniającego na lata szkolne 2017/2018-2019/2020 </a:t>
            </a:r>
            <a:r>
              <a:rPr b="0" i="1" lang="pl-PL" sz="2200" spc="-1" strike="noStrike">
                <a:solidFill>
                  <a:srgbClr val="000000"/>
                </a:solidFill>
                <a:latin typeface="Constantia"/>
              </a:rPr>
              <a:t>(DZ. U.  2017 r.  poz.586)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ff0000"/>
                </a:solidFill>
                <a:latin typeface="Constantia"/>
              </a:rPr>
              <a:t>Zarządzenia nr 7/2018 Pomorskiego Kuratora Oświaty z dnia 31 stycznia 2018 roku </a:t>
            </a:r>
            <a:r>
              <a:rPr b="0" i="1" lang="pl-PL" sz="1600" spc="-1" strike="noStrike">
                <a:solidFill>
                  <a:srgbClr val="ff0000"/>
                </a:solidFill>
                <a:latin typeface="Constantia"/>
              </a:rPr>
              <a:t>w sprawie terminów przeprowadzania postępowania rekrutacyjnego i postępowania uzupełniającego, w tym terminów składania dokumentów na rok szkolny 2018/2019, do klas pierwszych publicznych szkół ponadgimnazjalnych, klas pierwszych szkół ponadpodstawowych – trzyletnich branżowych szkół I stopnia, na semestr pierwszy szkół policealnych oraz do szkół dla dorosłych   w województwie pomorskim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Do szkoły przyjmowani są kandydaci, kolejno,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pl-PL" sz="2800" spc="-1" strike="noStrike">
                <a:solidFill>
                  <a:srgbClr val="ff0000"/>
                </a:solidFill>
                <a:latin typeface="Calibri"/>
              </a:rPr>
              <a:t>z największą ilością punktów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W przypadku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równorzędnych wyników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uzyskanych w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pierwszym etapie postępowania rekrutacyjnego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, w drugim etapie postępowania rekrutacyjnego przyjmuje się kandydató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z problemami zdrowotnymi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, ograniczającymi możliwości wyboru kierunku kształcenia ze względu na stan zdrowia, potwierdzonymi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opinią publicznej poradni psychologiczno-pedagogicznej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w tym publicznej poradni specjalistycznej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49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Bookman Old Style"/>
              </a:rPr>
              <a:t>W przypadku równorzędnych wyników uzyskanych </a:t>
            </a:r>
            <a:r>
              <a:rPr b="0" lang="pl-PL" sz="1700" spc="-1" strike="noStrike">
                <a:solidFill>
                  <a:srgbClr val="ff0000"/>
                </a:solidFill>
                <a:latin typeface="Bookman Old Style"/>
              </a:rPr>
              <a:t>w drugim etapie </a:t>
            </a:r>
            <a:r>
              <a:rPr b="0" lang="pl-PL" sz="1700" spc="-1" strike="noStrike">
                <a:solidFill>
                  <a:srgbClr val="002060"/>
                </a:solidFill>
                <a:latin typeface="Bookman Old Style"/>
              </a:rPr>
              <a:t>postępowania rekrutacyjnego lub jeżeli po zakończeniu tego etapu szkoła, nadal dysponuje wolnymi miejscami, na trzecim etapie postępowania rekrutacyjnego są brane pod uwagę łącznie kryteria: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Bookman Old Style"/>
              </a:rPr>
              <a:t>1)</a:t>
            </a:r>
            <a:r>
              <a:rPr b="0" lang="pl-PL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wielodzietność rodziny kandydat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2) niepełnosprawność kandydat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3) niepełnosprawność jednego z rodziców kandydat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4) niepełnosprawność obojga rodziców kandydat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5) niepełnosprawność rodzeństwa kandydat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6) samotne wychowywanie kandydata w rodzinie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Bookman Old Style"/>
              </a:rPr>
              <a:t>7) objęcie kandydata pieczą zastępcz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Bookman Old Style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Bookman Old Style"/>
              </a:rPr>
              <a:t>      </a:t>
            </a:r>
            <a:r>
              <a:rPr b="0" lang="pl-PL" sz="2000" spc="-1" strike="noStrike">
                <a:solidFill>
                  <a:srgbClr val="002060"/>
                </a:solidFill>
                <a:latin typeface="Bookman Old Style"/>
              </a:rPr>
              <a:t>Kryteria, o których mowa,</a:t>
            </a:r>
            <a:r>
              <a:rPr b="0" lang="pl-PL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l-PL" sz="2000" spc="-1" strike="noStrike">
                <a:solidFill>
                  <a:srgbClr val="ff0000"/>
                </a:solidFill>
                <a:latin typeface="Bookman Old Style"/>
              </a:rPr>
              <a:t>mają jednakową wartość</a:t>
            </a:r>
            <a:r>
              <a:rPr b="0" lang="pl-PL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libri"/>
              </a:rPr>
              <a:t>§ 2.  Postępowanie kwalifikacyjne</a:t>
            </a:r>
            <a:br>
              <a:rPr sz="49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Bookman Old Style"/>
              </a:rPr>
              <a:t>Laureaci lub finaliści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ogólnopolskich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olimpiad przedmiotowych</a:t>
            </a:r>
            <a:r>
              <a:rPr b="1" lang="pl-PL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oraz</a:t>
            </a:r>
            <a:r>
              <a:rPr b="1" lang="pl-PL" sz="2400" spc="-1" strike="noStrike">
                <a:solidFill>
                  <a:srgbClr val="002060"/>
                </a:solidFill>
                <a:latin typeface="Bookman Old Style"/>
              </a:rPr>
              <a:t> laureaci konkursów przedmiotowych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 o zasięgu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wojewódzkim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lub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ponadwojewódzkim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przeprowadzonych zgodnie z </a:t>
            </a:r>
            <a:r>
              <a:rPr b="0" lang="pl-PL" sz="2000" spc="-1" strike="noStrike">
                <a:solidFill>
                  <a:srgbClr val="002060"/>
                </a:solidFill>
                <a:latin typeface="Bookman Old Style"/>
              </a:rPr>
              <a:t>art. 132 </a:t>
            </a:r>
            <a:r>
              <a:rPr b="0" i="1" lang="pl-PL" sz="2000" spc="-1" strike="noStrike">
                <a:solidFill>
                  <a:srgbClr val="083763"/>
                </a:solidFill>
                <a:latin typeface="Bookman Old Style"/>
              </a:rPr>
              <a:t>z dnia 14 grudnia 2016 r. </a:t>
            </a:r>
            <a:r>
              <a:rPr b="0" lang="pl-PL" sz="2000" spc="-1" strike="noStrike">
                <a:solidFill>
                  <a:srgbClr val="083763"/>
                </a:solidFill>
                <a:latin typeface="Bookman Old Style"/>
              </a:rPr>
              <a:t>Prawo oświatowe</a:t>
            </a:r>
            <a:r>
              <a:rPr b="0" i="1" lang="pl-PL" sz="2000" spc="-1" strike="noStrike">
                <a:solidFill>
                  <a:srgbClr val="083763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,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przyjmowani są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do wybranej szkoły ponadgimnazjalnej niezależnie od przyjętych kryterió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75" name="Obraz 4" descr=""/>
          <p:cNvPicPr/>
          <p:nvPr/>
        </p:nvPicPr>
        <p:blipFill>
          <a:blip r:embed="rId2"/>
          <a:stretch/>
        </p:blipFill>
        <p:spPr>
          <a:xfrm>
            <a:off x="4562640" y="5075280"/>
            <a:ext cx="1773000" cy="13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§ 3. Terminy rekrutacji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060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Constantia"/>
              </a:rPr>
              <a:t>GIMNAZJA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pl-PL" sz="2600" spc="-1" strike="noStrike">
                <a:solidFill>
                  <a:srgbClr val="ff0000"/>
                </a:solidFill>
                <a:latin typeface="Constantia"/>
              </a:rPr>
              <a:t>AKTYW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2060"/>
                </a:solidFill>
                <a:latin typeface="Constantia"/>
              </a:rPr>
              <a:t>Przekazywanie danych osobowych uczniów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Constantia"/>
              </a:rPr>
              <a:t>Gimnazja aktywne: Przesyłanie danych o osiągnięciach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79" name="Obraz 3" descr=""/>
          <p:cNvPicPr/>
          <p:nvPr/>
        </p:nvPicPr>
        <p:blipFill>
          <a:blip r:embed="rId2"/>
          <a:stretch/>
        </p:blipFill>
        <p:spPr>
          <a:xfrm>
            <a:off x="3348000" y="5067360"/>
            <a:ext cx="153036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libri"/>
              </a:rPr>
              <a:t>§ 3. Terminy rekrutacji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Bookman Old Style"/>
              </a:rPr>
              <a:t>od 14 maja do 20 czerwca 2018 r.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</a:rPr>
              <a:t>składanie podań o przyjęcie do szkoły i innych wymaganych </a:t>
            </a:r>
            <a:r>
              <a:rPr b="0" lang="pl-PL" sz="2600" spc="-1" strike="noStrike">
                <a:solidFill>
                  <a:srgbClr val="004e6d"/>
                </a:solidFill>
                <a:latin typeface="Bookman Old Style"/>
              </a:rPr>
              <a:t>dokumentów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Obraz 3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Obraz 4" descr=""/>
          <p:cNvPicPr/>
          <p:nvPr/>
        </p:nvPicPr>
        <p:blipFill>
          <a:blip r:embed="rId2"/>
          <a:stretch/>
        </p:blipFill>
        <p:spPr>
          <a:xfrm>
            <a:off x="2973240" y="4659480"/>
            <a:ext cx="2738520" cy="1617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§ 3. Terminy rekrutacji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od 22 czerwca od godz. 12</a:t>
            </a:r>
            <a:r>
              <a:rPr b="1" lang="pl-PL" sz="24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do 26 czerwca 2018 do godz. 15</a:t>
            </a:r>
            <a:r>
              <a:rPr b="1" lang="pl-PL" sz="24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–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</a:rPr>
              <a:t>dostarczenie przez absolwentów gimnazjów do szkół ponadgimnazjalnych </a:t>
            </a:r>
            <a:r>
              <a:rPr b="1" i="1" lang="pl-PL" sz="2400" spc="-1" strike="noStrike">
                <a:solidFill>
                  <a:srgbClr val="002060"/>
                </a:solidFill>
                <a:latin typeface="Bookman Old Style"/>
              </a:rPr>
              <a:t>świadectwa ukończenia gimnazjum i zaświadczenia o szczególnych wynikach egzaminu gimnazjalnego 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</a:rPr>
              <a:t>lub poświadczone kopie świadectwa ukończenia gimnazjum i zaświadczenia            o szczegółowych wynikach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06 lipca 2018 do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godz. 12</a:t>
            </a:r>
            <a:r>
              <a:rPr b="1" lang="pl-PL" sz="24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</a:rPr>
              <a:t>ogłoszenie listy kandydatów zakwalifikowanych do szkoły i kandydatów niezakwalifikowanych do szkoły</a:t>
            </a:r>
            <a:r>
              <a:rPr b="0" i="1" lang="pl-PL" sz="24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§ 3. Terminy rekrutacji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od 06 lipca od godz.12.00 do 11 lipca 2018 do godz. 15</a:t>
            </a:r>
            <a:r>
              <a:rPr b="1" lang="pl-PL" sz="24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</a:rPr>
              <a:t> –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</a:rPr>
              <a:t>kandydaci umieszczeni na listach kandydatów zakwalifikowanych do szkoły potwierdzają wolę podjęcia nauki w danej szkole poprzez dostarczenie </a:t>
            </a:r>
            <a:r>
              <a:rPr b="1" i="1" lang="pl-PL" sz="2200" spc="-1" strike="noStrike">
                <a:solidFill>
                  <a:srgbClr val="002060"/>
                </a:solidFill>
                <a:latin typeface="Bookman Old Style"/>
              </a:rPr>
              <a:t>oryginału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</a:rPr>
              <a:t> świadectwa ukończenia gimnazjum i </a:t>
            </a:r>
            <a:r>
              <a:rPr b="1" i="1" lang="pl-PL" sz="2200" spc="-1" strike="noStrike">
                <a:solidFill>
                  <a:srgbClr val="002060"/>
                </a:solidFill>
                <a:latin typeface="Bookman Old Style"/>
              </a:rPr>
              <a:t>oryginału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</a:rPr>
              <a:t> zaświadczenia o szczegółowych wynikach egzaminu gimnazjalnego</a:t>
            </a:r>
            <a:r>
              <a:rPr b="0" i="1" lang="pl-PL" sz="22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Constantia"/>
              </a:rPr>
              <a:t>od 06  lipca 2018r</a:t>
            </a:r>
            <a:r>
              <a:rPr b="0" lang="pl-PL" sz="2400" spc="-1" strike="noStrike">
                <a:solidFill>
                  <a:srgbClr val="ff0000"/>
                </a:solidFill>
                <a:latin typeface="Constantia"/>
              </a:rPr>
              <a:t>. </a:t>
            </a:r>
            <a:r>
              <a:rPr b="1" lang="pl-PL" sz="2400" spc="-1" strike="noStrike">
                <a:solidFill>
                  <a:srgbClr val="ff0000"/>
                </a:solidFill>
                <a:latin typeface="Constantia"/>
              </a:rPr>
              <a:t>od godz. 12.00 do 09 lipca 2018r. do godz. 15.00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</a:rPr>
              <a:t>wydanie przez szkołę prowadzącą kształcenie zawodowe skierowań na badania lekarskie kandydatom zakwalifikowanych , którzy </a:t>
            </a:r>
            <a:r>
              <a:rPr b="1" i="1" lang="pl-PL" sz="2200" spc="-1" strike="noStrike">
                <a:solidFill>
                  <a:srgbClr val="002060"/>
                </a:solidFill>
                <a:latin typeface="Bookman Old Style"/>
              </a:rPr>
              <a:t>złożyli oświadczenie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</a:rPr>
              <a:t>o wyborze tej szkoły;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9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§ 3. Terminy rekrutacji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do 12 lipca 2018 r. od godz. 12</a:t>
            </a:r>
            <a:r>
              <a:rPr b="1" lang="pl-PL" sz="24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1" lang="pl-PL" sz="2400" spc="-1" strike="noStrike">
                <a:solidFill>
                  <a:srgbClr val="002060"/>
                </a:solidFill>
                <a:latin typeface="Bookman Old Style"/>
              </a:rPr>
              <a:t>ogłoszenie listy kandydatów przyjętych do szkoły oraz listy kandydatów nieprzyjętych do szkoły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93" name="Obraz 3" descr=""/>
          <p:cNvPicPr/>
          <p:nvPr/>
        </p:nvPicPr>
        <p:blipFill>
          <a:blip r:embed="rId2"/>
          <a:stretch/>
        </p:blipFill>
        <p:spPr>
          <a:xfrm>
            <a:off x="3016080" y="4641840"/>
            <a:ext cx="2581560" cy="17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ff0000"/>
                </a:solidFill>
                <a:latin typeface="Calibri"/>
              </a:rPr>
              <a:t>§ 3. Terminy rekrutacji uzupełniającej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</a:rPr>
              <a:t>od 13 lipca do 10 sierpnia 2018 r. do godz. 12</a:t>
            </a:r>
            <a:r>
              <a:rPr b="1" i="1" lang="pl-PL" sz="2600" spc="-1" strike="noStrike" baseline="30000">
                <a:solidFill>
                  <a:srgbClr val="ff0000"/>
                </a:solidFill>
                <a:latin typeface="Bookman Old Style"/>
              </a:rPr>
              <a:t>00</a:t>
            </a: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i="1" lang="pl-PL" sz="26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</a:rPr>
              <a:t>składanie przez kandydatów nieprzyjętych do wybranej szkoły oryginałów dokumentów w szkołach, które dysponują wolnymi miejscam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Bookman Old Style"/>
              </a:rPr>
              <a:t>27 sierpnia 2018 r. do godz.12.00</a:t>
            </a:r>
            <a:r>
              <a:rPr b="0" i="1" lang="pl-PL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</a:rPr>
              <a:t>ogłoszenie listy kandydatów zakwalifikowanych do szkoły      w rekrutacji uzupełniającej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6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ff0000"/>
                </a:solidFill>
                <a:latin typeface="Calibri"/>
              </a:rPr>
              <a:t>§ 3. Terminy rekrutacji uzupełniającej 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Constantia"/>
              </a:rPr>
              <a:t>od 27  sierpnia 2018r. do 28  sierpnia  2018r. do godz. 15.00</a:t>
            </a:r>
            <a:r>
              <a:rPr b="0" lang="pl-PL" sz="24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wydanie przez szkołę prowadzącą kształcenie zawodowe skierowań na badania lekarskie kandydatom zakwalifikowanych , którzy dokonali wyboru kształcenia w danej szkole, w przypadku złożenia przez kandydata oświadczenia o wyborze tej szkoły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9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300" name="Obraz 3" descr=""/>
          <p:cNvPicPr/>
          <p:nvPr/>
        </p:nvPicPr>
        <p:blipFill>
          <a:blip r:embed="rId2"/>
          <a:stretch/>
        </p:blipFill>
        <p:spPr>
          <a:xfrm>
            <a:off x="3635280" y="4835520"/>
            <a:ext cx="1116000" cy="1577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l-PL" sz="3200" spc="-1" strike="noStrike">
                <a:solidFill>
                  <a:srgbClr val="04617b"/>
                </a:solidFill>
                <a:latin typeface="Calibri"/>
              </a:rPr>
              <a:t>§ 1.  Przyjmowanie dokumentów od kandydatów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W celu przeprowadzenia postępowania rekrutacyjnego na rok szkolny 2018/2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do szkół ponadgimnazjalnych w powiecie starogardzkim szkoły prowadzą scentralizowany elektroniczny nabór przez Internet: </a:t>
            </a:r>
            <a:r>
              <a:rPr b="0" lang="en-US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powiatstarogard.p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24000" y="4487760"/>
            <a:ext cx="4214880" cy="2370240"/>
          </a:xfrm>
          <a:prstGeom prst="rect">
            <a:avLst/>
          </a:prstGeom>
          <a:ln w="0">
            <a:noFill/>
          </a:ln>
        </p:spPr>
      </p:pic>
      <p:pic>
        <p:nvPicPr>
          <p:cNvPr id="212" name="Obraz 5" descr="C:\Users\Danka\Desktop\logo.jpg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ff0000"/>
                </a:solidFill>
                <a:latin typeface="Calibri"/>
              </a:rPr>
              <a:t>§ 3. Terminy rekrutacji uzupełniającej 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od 27 sierpnia 2018 od godz. 12.00 do 30  sierpnia 2018 do godz. 12.00</a:t>
            </a:r>
            <a:r>
              <a:rPr b="0" i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– 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kandydaci umieszczeni na listach kandydatów zakwalifikowanych do szkoły potwierdzają wolę podjęcia nauki w danej szkole poprzez dostarczenie </a:t>
            </a:r>
            <a:r>
              <a:rPr b="1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ryginału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świadectwa ukończenia gimnazjum i </a:t>
            </a:r>
            <a:r>
              <a:rPr b="1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ryginału</a:t>
            </a: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zaświadczenia o szczegółowych wynikach egzaminu gimnazjalnego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do 31 sierpnia 2018r. od godz. 12.00 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-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głoszenie listy przyjętych i nieprzyjętych do szkoły w rekrutacji uzupełniające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3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4500"/>
            </a:br>
            <a:r>
              <a:rPr b="1" lang="pl-PL" sz="4500" spc="-1" strike="noStrike">
                <a:solidFill>
                  <a:srgbClr val="ff0000"/>
                </a:solidFill>
                <a:latin typeface="Calibri"/>
              </a:rPr>
              <a:t>§ 4.  Postanowienia końcowe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Komisja rekrutacyjna przyjmuje kandydata do szkoły, jeżeli w wyniku postępowania rekrutacyjnego kandydat został zakwalifikowany oraz złożył wymagane dokument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6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307" name="Obraz 3" descr=""/>
          <p:cNvPicPr/>
          <p:nvPr/>
        </p:nvPicPr>
        <p:blipFill>
          <a:blip r:embed="rId2"/>
          <a:stretch/>
        </p:blipFill>
        <p:spPr>
          <a:xfrm>
            <a:off x="3625920" y="4130640"/>
            <a:ext cx="1127160" cy="203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§ 4.  Postanowienia końcow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Komisja rekrutacyjna podaje do publicznej wiadomości listę kandydatów przyjętych i kandydatów nieprzyjętych do szkoły. Lista zawiera imiona i nazwiska kandydatów przyjętych i kandydatów nieprzyjętych lub informację o liczbie wolnych miejs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Listy zawierają imiona i nazwiska kandydatów uszeregowane w kolejności alfabetycznej oraz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</a:t>
            </a:r>
            <a:r>
              <a:rPr b="1" i="1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najniższą liczbę punktów, która uprawnia do przyjęc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§ 4.  Postanowienia końcow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W terminie </a:t>
            </a: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7 dni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d dnia podania do publicznej wiadomości listy kandydatów przyjętych i kandydatów nieprzyjętych, rodzic kandydata lub kandydat pełnoletni może wystąpić do komisji rekrutacyjnej</a:t>
            </a:r>
            <a:r>
              <a:rPr b="0" i="1" lang="en-US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z wnioskie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 sporządzenie uzasadnienia odmowy przyjęcia kandydata do szkoł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Uzasadnienie sporządza się w terminie </a:t>
            </a: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5 dni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d dnia wystąpienia przez rodzica kandydata lub kandydata pełnoletniego z wnioskiem</a:t>
            </a:r>
            <a:r>
              <a:rPr b="0" i="1" lang="en-US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§ 4.  Postanowienia końcow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2800" indent="-4896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Rodzic kandydata lub kandydat pełnoletni może wnieść do dyrektora szkoły odwołanie od rozstrzygnięcia komisji rekrutacyjnej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42800" indent="-4896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w terminie </a:t>
            </a: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7</a:t>
            </a:r>
            <a:r>
              <a:rPr b="0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dni</a:t>
            </a:r>
            <a:r>
              <a:rPr b="0" i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0" i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d dnia otrzymania uzasadnien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442800" indent="-4896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 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Dyrektor szkoły rozpatruje odwołanie od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 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rozstrzygnięcia komisji rekrutacyjnej, w terminie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    </a:t>
            </a:r>
            <a:r>
              <a:rPr b="1" i="1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7 dni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d dnia otrzymania odwołania. Na   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  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rozstrzygnięcie dyrektora szkoły służy skarga do sądu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     </a:t>
            </a:r>
            <a:r>
              <a:rPr b="0" i="1" lang="pl-PL" sz="22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administracyjneg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6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ff0000"/>
                </a:solidFill>
                <a:latin typeface="Calibri"/>
              </a:rPr>
              <a:t>Rekrutacja 2018/201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Symbol zastępczy zawartości 5" descr="1.jpg"/>
          <p:cNvPicPr/>
          <p:nvPr/>
        </p:nvPicPr>
        <p:blipFill>
          <a:blip r:embed="rId1"/>
          <a:stretch/>
        </p:blipFill>
        <p:spPr>
          <a:xfrm>
            <a:off x="2340000" y="2421000"/>
            <a:ext cx="484812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4617b"/>
                </a:solidFill>
                <a:latin typeface="Calibri"/>
              </a:rPr>
              <a:t>§ 1.  Przyjmowanie dokumentów od kandydatów</a:t>
            </a:r>
            <a:br>
              <a:rPr sz="59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pl-PL" sz="2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Kandydaci do szkół ponadgimnazjalnych powiatu starogardzkiego mogą rejestrować się w systemie w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macierzystym gimnazjum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tzw. gimnazjum aktywne</a:t>
            </a:r>
            <a:r>
              <a:rPr b="0" lang="en-US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)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szkole  ponadgimnazjalnej  pierwszego wyboru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punkcie informacyjnym o naborze, tj. w Wydziale Edukacji Starostwa Powiatowego    w Starogardzie Gdańskim , ul. Kościuszki 17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dowolnym innym miejscu, które dysponuje dostępem do Internetu ( np. w domu, kawiarence interneto</a:t>
            </a:r>
            <a:r>
              <a:rPr b="0" lang="pl-PL" sz="2400" spc="-1" strike="noStrike">
                <a:solidFill>
                  <a:srgbClr val="002060"/>
                </a:solidFill>
                <a:latin typeface="Bookman Old Style"/>
              </a:rPr>
              <a:t>wej)</a:t>
            </a:r>
            <a:r>
              <a:rPr b="0" lang="pl-PL" sz="2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01080" y="5805360"/>
            <a:ext cx="86364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4617b"/>
                </a:solidFill>
                <a:latin typeface="Calibri"/>
              </a:rPr>
              <a:t>§ 1.  Przyjmowanie dokumentów od kandydatów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Kandydaci, składając podania do szkoły, posługują się </a:t>
            </a:r>
            <a:r>
              <a:rPr b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rzema kopiami</a:t>
            </a:r>
            <a:r>
              <a:rPr b="1" lang="pl-PL" sz="2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świadectwa ukończenia gimnazjum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 </a:t>
            </a:r>
            <a:r>
              <a:rPr b="1" lang="pl-PL" sz="2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rzema kopiami </a:t>
            </a:r>
            <a:r>
              <a:rPr b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zaświadczenia</a:t>
            </a:r>
            <a:r>
              <a:rPr b="1" lang="en-US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</a:t>
            </a:r>
            <a:r>
              <a:rPr b="1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o szczegółowych wynikach egzaminu gimnazjalnego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 </a:t>
            </a:r>
            <a:r>
              <a:rPr b="0" lang="pl-PL" sz="2600" spc="-1" strike="noStrike" u="sng">
                <a:solidFill>
                  <a:srgbClr val="002060"/>
                </a:solidFill>
                <a:uFillTx/>
                <a:latin typeface="Bookman Old Style"/>
                <a:ea typeface="Times New Roman"/>
              </a:rPr>
              <a:t>poświadczonymi przez dyrektora gimnazjum</a:t>
            </a:r>
            <a:r>
              <a:rPr b="0" lang="pl-PL" sz="2600" spc="-1" strike="noStrike">
                <a:solidFill>
                  <a:srgbClr val="002060"/>
                </a:solidFill>
                <a:latin typeface="Bookman Old Style"/>
                <a:ea typeface="Times New Roman"/>
              </a:rPr>
              <a:t>, które kandydat ukończy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4617b"/>
                </a:solidFill>
                <a:latin typeface="Calibri"/>
              </a:rPr>
              <a:t>§ 1.  Przyjmowanie dokumentów od kandydatów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W okresie rekrutacji tj</a:t>
            </a:r>
            <a:r>
              <a:rPr b="0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 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d 14 maja do 20 czerwca 2018 </a:t>
            </a: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andydaci do szkół ponadgimnazjalnych prowadzonych przez Powiat Starogardzki wybierają na stronie internetowej Systemu Elektronicznego Naboru szkoły i klasy, do których chcą być przyjęci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andydat może wybrać maksymalnie 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rzy szkoły</a:t>
            </a: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andydat może wybrać 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owolną liczbę klas w każdej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z wybranych trzech szkół</a:t>
            </a:r>
            <a:r>
              <a:rPr b="1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,</a:t>
            </a: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andydat ustala kolejność wybranych klas, klasa wybrana jako pierwsza jest ta, na której kandydatowi najbardziej zależy. Ostatnia z zaznaczonych to ta, na której kandydatowi najmniej zależy. Są to tzw. </a:t>
            </a:r>
            <a:r>
              <a:rPr b="1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referencje kandydata</a:t>
            </a:r>
            <a:r>
              <a:rPr b="0" lang="pl-PL" sz="22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. Szkoła, prowadząca klasę wybraną jako pierwszą jest traktowana jako </a:t>
            </a:r>
            <a:r>
              <a:rPr b="1" lang="pl-PL" sz="2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zkoła pierwszego wyboru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KUMEN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o wyborze szkół Kandydaci ubiegający się o przyj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é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ie do szkół ponadgimnazjalnych, składają w terminie rekrutacji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w </a:t>
            </a:r>
            <a:r>
              <a:rPr b="0" lang="pl-PL" sz="1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ierwszej</a:t>
            </a:r>
            <a:r>
              <a:rPr b="0" lang="pl-PL" sz="1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z wybranych szkół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wniosek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o przyjęcie do szkoły wydrukowane z Systemu Elektronicznego Naboru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podpisane przez rodziców 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( do szkoły branżowej dodatkowo zaświadczenie od pracodawcy o zamiarze zawarcia umowy)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świadectwo ukończenia szkoły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ub poświadczoną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opię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świadectwa ukończenia gimnazjum opatrzoną nr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"1"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zaświadczenie o wynikach egzaminu gimnazjalnego</a:t>
            </a:r>
            <a:r>
              <a:rPr b="1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ub poświadczoną </a:t>
            </a:r>
            <a:r>
              <a:rPr b="1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kopię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zaświadczenia o wynikach egzaminu gimnazjalnego opatrzoną nr 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"1",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zaświadczenie o uzyskaniu 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ytułu laureata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ub finalisty olimpiad lub konkursów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pinię wydaną przez publiczna poradnię psychologiczno- pedagogiczną, w tym publiczną poradnię specjalistyczną , w sprawie pierwszeństwa w przyjęciu ucznia 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z problemami zdrowotnymi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okumenty </a:t>
            </a:r>
            <a:r>
              <a:rPr b="0" lang="pl-PL" sz="16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otwierdzające spełnienie kryteriów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, o których mowa w § 2 ust 8, pkt 1-7 ( jeśli komisja </a:t>
            </a:r>
            <a:r>
              <a:rPr b="0" lang="pl-PL" sz="1600" spc="-1" strike="noStrike">
                <a:solidFill>
                  <a:srgbClr val="000000"/>
                </a:solidFill>
                <a:latin typeface="Bookman Old Style"/>
              </a:rPr>
              <a:t>rekrutacyjna ma wziąć pod uwagę spełnianie danego kryterium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4617b"/>
                </a:solidFill>
                <a:latin typeface="Calibri"/>
              </a:rPr>
              <a:t>§ 1.  Przyjmowanie dokumentów od kandydatów</a:t>
            </a:r>
            <a:br>
              <a:rPr sz="5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W celu przeprowadzenia postępowania rekrutacyjnego na rok szkolny 2018/2019 do szkół ponadgimnazjalnych, 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z dniem </a:t>
            </a:r>
            <a:r>
              <a:rPr b="1" lang="pl-PL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14 maja 2018r.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rozpoczynają działalność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Szkolne Punkty Informacyjne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,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mieszczące się w budynkach szkół, w których można uzyskać informacje związane z rekrutacją, a także składać podania o przyjęcie do szkoły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owiatowy Punkt Informacyjny 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z siedzibą w budynku Starostwa Powiatowego </a:t>
            </a:r>
            <a:br>
              <a:rPr sz="2400"/>
            </a:b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w Starogardzie Gd. ul. Kościuszki 17</a:t>
            </a:r>
            <a:r>
              <a:rPr b="1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, tel. (058) 76 73 576</a:t>
            </a:r>
            <a:r>
              <a:rPr b="0" lang="pl-PL" sz="24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, koordynujący rekrutację</a:t>
            </a:r>
            <a:r>
              <a:rPr b="0" lang="pl-PL" sz="24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Obraz 4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DOKUMEN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Oryginał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świadectwa ukończenia gimnazjum wraz z 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oryginałem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 zaświadczenia o szczegółowych wynikach egzaminu gimnazjalnego należy złożyć w wybranej szkole, w której uczeń </a:t>
            </a:r>
            <a:r>
              <a:rPr b="0" lang="pl-PL" sz="2600" spc="-1" strike="noStrike">
                <a:solidFill>
                  <a:srgbClr val="ff0000"/>
                </a:solidFill>
                <a:latin typeface="Bookman Old Style"/>
              </a:rPr>
              <a:t>potwierdza wolę </a:t>
            </a:r>
            <a:r>
              <a:rPr b="0" lang="pl-PL" sz="2600" spc="-1" strike="noStrike">
                <a:solidFill>
                  <a:srgbClr val="000000"/>
                </a:solidFill>
                <a:latin typeface="Bookman Old Style"/>
              </a:rPr>
              <a:t>podjęcia nauk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Obraz 5" descr="C:\Users\Danka\Desktop\logo.jpg"/>
          <p:cNvPicPr/>
          <p:nvPr/>
        </p:nvPicPr>
        <p:blipFill>
          <a:blip r:embed="rId1"/>
          <a:stretch/>
        </p:blipFill>
        <p:spPr>
          <a:xfrm>
            <a:off x="8172360" y="6021360"/>
            <a:ext cx="647640" cy="576360"/>
          </a:xfrm>
          <a:prstGeom prst="rect">
            <a:avLst/>
          </a:prstGeom>
          <a:ln w="0">
            <a:noFill/>
          </a:ln>
        </p:spPr>
      </p:pic>
      <p:pic>
        <p:nvPicPr>
          <p:cNvPr id="231" name="Obraz 3" descr=""/>
          <p:cNvPicPr/>
          <p:nvPr/>
        </p:nvPicPr>
        <p:blipFill>
          <a:blip r:embed="rId2"/>
          <a:stretch/>
        </p:blipFill>
        <p:spPr>
          <a:xfrm>
            <a:off x="2843280" y="4286160"/>
            <a:ext cx="2293920" cy="212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0:42:40Z</dcterms:created>
  <dc:creator>Celina</dc:creator>
  <dc:description/>
  <dc:language>en-US</dc:language>
  <cp:lastModifiedBy>Kris</cp:lastModifiedBy>
  <dcterms:modified xsi:type="dcterms:W3CDTF">2018-02-26T15:02:16Z</dcterms:modified>
  <cp:revision>253</cp:revision>
  <dc:subject/>
  <dc:title>Kangur’2011</dc:title>
</cp:coreProperties>
</file>